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F9B7-F82B-44D9-80A9-6A34BD4E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327-738F-4E6C-B48F-64D2A6B9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61CCA-E62C-44C5-96A0-FA4DF820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0712B-39F2-45A3-AB65-E96BA378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FD821-16AB-4C8F-8280-4DE20CCB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369AE-FC71-48A1-B19F-018D10EB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68272-04A4-4934-A171-FD460F34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855DF-F3B2-4640-A1EF-98958B66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B80AB-40F3-4272-A21A-1E6594EE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31517-6043-410E-B122-009A331A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BFA53-9B01-4BB2-B924-E5FB9E8C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BA2A8-0E0A-41EB-A571-3543BBB2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612-1117-4721-8049-DB4E2B1F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27927-06A3-47F0-B653-1C4B966D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6CC78-488E-4085-9EB8-317DEE2A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0250A-69F9-48D0-A661-87C1B356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0801F-7F57-4039-8E27-77FC7F13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BC1B3-52C6-42BD-9640-32774B31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221F0-E7F7-4111-B957-695E9080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1C821-BEFE-441A-8222-A5D41E1F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ED097-5FFE-4035-9445-353C6265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03CA3-52EB-4C28-AAA4-52430DE6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FD5F0-8723-43E5-8483-7BD5DC3C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278D-6B8C-4731-883E-5E09C8EA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FB798-E0F7-4D39-B725-F2BD3E1C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8AFC3-41FD-40C5-BD8D-758E9E80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BDC73-51AA-4D8E-94D8-FD8295ED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4F0B8-42C8-4850-BD30-C6D1C677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4170B-4909-4870-BAB9-DFF56CD2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1A0AD-BBF9-41B5-86C5-BC1327C1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7117C-E79F-4DF5-98F4-C2434A04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690C0-C5B1-40B3-A112-29765628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74AF4-FDD8-45D0-8262-500AA2E1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503BF-7774-4F95-B39F-9ACAD015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2140-B78B-49A1-8FFD-4534309E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E0338-8B23-4299-AEC9-8538FB84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DBCE5-ECF5-4CEB-B5F8-C466A40A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0C647-2648-4DE0-BA16-C03BB72B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3A776-3224-4ABF-8C09-01499C07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38155-904E-420A-B679-DEFD3EE0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80451-C871-4013-91E7-CAAF9B7E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83BA3-B70E-4124-BE32-3A5CBA73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85E33-927A-425A-84D4-047F887C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85B21-EF35-4E6D-8856-AF34B42B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CAC36-D405-4558-964E-85A92B4D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AEB6-369F-479E-95B9-605EBECB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AA39C-B028-474C-A967-67035A7A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F2BDE-2CC2-4A86-9ADF-6789EFAD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79995-8AF1-4FFE-AF74-35D58D7C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4A9E9-2235-45D6-90C9-5762FEC8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7DA97-0C18-46BC-86BE-67EB293D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AD064-A577-4530-B1D2-EF0D8023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BB8F2-4576-4E50-83BC-C998C466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1E6A64-E6D4-4A7D-86EB-58C7F85E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37030-3E13-4225-A17C-2C1AF508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E5A14-D95A-4414-808B-F4D0E2F6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27F0-CC71-4F92-A930-C4871F8B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FF754-90E6-4912-8440-55AC1350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36261-C25B-4C92-8DB2-5A57C4D0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029BC7-48B0-4DAC-8AD2-2E08EA72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EF037-4CA7-459B-9969-65DE6CC4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9CD1F-BA5F-4F76-9D8C-01257A34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84D52-A312-4921-8E7C-42DC3766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E65434-923A-4878-A0D3-64DBC15E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20EC19-BE4B-4DEC-984A-77BA63BB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CA11E-332A-4B8C-88A6-FD04222F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E3EB05-C979-433A-AA58-370CB488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A71E-1570-4B64-AD5C-04948BA9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61569F-368B-41E4-A49F-B80F5427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034CA4-0484-4C9D-9902-55CDAF55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E9F040-FF59-4675-8C57-3254CC82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7BEB2-CC6D-4851-BFB3-638161B4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F24FAE-A6E0-43C1-A0B5-C3ED8113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62C537-09FB-4DFA-90EA-C0401F11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AE83DB-49C4-470B-9FBD-A7BA18FC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95DD3E-74A1-4552-BD33-EF2D779D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4C19FA-1A96-4114-B06C-AE1A0A09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333160-903E-4DAC-920A-6BCC7417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6CE3-4B06-46E7-888C-8A4E330B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2093F8-50ED-41A4-A279-3619FF36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FB0032-45C6-4A55-B323-E6DB3037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7FE78F-C46D-4F6E-AE55-F3619E23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8F0398-009E-4208-BCA7-903B8677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1C6014-C0CF-49C4-A51D-15E9AB90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00CF2-2DE5-4EEF-B0A1-15203264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B9332C-1780-4783-A663-4CA17374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C80E1A-6300-4AF2-A723-CE4908AB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A55419-E511-4EA3-81BF-E80B64A3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8DB5AC-15C7-40B9-8B5B-1BB4C2FB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BBA8-F28B-48E3-BD3B-DD39DD28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CE43C7-F0B2-4CAA-892A-AA8FE8A4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87545-977F-4BB1-807F-7D54CD05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BB9719-18A3-4F54-950A-6432166A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F7312F-0A5C-4925-8AD2-974E89C3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99FB6E-DEC3-4CAA-80BD-BBCBC03F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D9831D-8F81-4ADC-A033-43F5C8CC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7DC0E8-7EA6-45BF-9B22-E8039C76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94C5A9-672B-4F34-B967-C4A7E899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B8E9D8-A8A1-438B-BED7-850A608A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066AD0-F9D7-4C6E-B8F0-36A624E5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E6D2-8E78-47A1-BB04-EDB02794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DC52C7-9F4E-4822-8D61-2A8FF949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9027E7-AED3-4C33-8816-A9BEC869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E3F45B-B0A5-4460-8DDA-72F498AE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F5D1A3-B264-4159-B38F-0C3CD3DB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129559-98AD-4315-9A20-ECAE923B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96F6EF-521B-48D1-8873-C27AF729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65E617-382A-4911-8192-7BCE78F1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C8711E-ADFF-49FB-B2AB-7944798F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6BE43E-F974-4FEF-BE04-1C0A35B3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E26566-AE7D-4872-A3F8-9F37C464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27B-E19E-48A1-974E-111E129D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DA4F-AA02-4DEA-B230-F5F5EE61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5F5BA0-F2DC-4AFF-ADE8-C8217756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BE9A7E-7F58-4A15-ACFB-20F9D195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B0F151-2274-457D-A706-55C98152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535F7B-B15F-4D59-BEE4-8B94C11A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01961F-F7FB-4474-99CD-AAF40797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FEE1FC-05AE-4FB5-AF64-DC4960E3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134595-3B80-4576-AE29-1A6EB5D0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CDF647-88B6-4ADE-B8AA-2A009393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8D289B-0E7E-4141-8643-91D7B330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E5A050-F0E3-461C-9B13-F12D7090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D456-2439-4D8F-9665-FF71BA80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025E00-746E-4D02-AA5D-B56CE044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5528D6-2E38-4362-AF35-D1827051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999249-9620-40DE-AC37-75DCC097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037AA7-8115-4397-99D4-064D1ADF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4568FA-B4A6-4B30-8162-6C12633C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72B12B-8D4F-4957-AB38-ADC603E8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81A8BD-7212-4257-AC4E-48993F6F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8CBA88-7A66-42B4-8048-571C5651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C170B0-84BC-4BC0-A266-DE2F1A30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728771-2DF6-4B56-85D3-63C22DC2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1507-077D-494F-B37A-993F2B6C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5D31AC-79B7-4258-9A18-38F8410C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B0C514-FE41-436F-A027-7716FF24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EE7024-19B6-48BB-B0F7-61668CD9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F0E943-BD89-41B9-9C77-E06E3068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C5551F-7935-4588-877F-76935116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ADD572-DF89-4854-9D9C-271BD854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1FCEE9-E29F-4DEB-943A-4616BDFE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482B81-26AA-46EA-88E0-C5CE98B2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7E6B40-E0E5-4663-B7F6-CE14DABE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A414F3-9F26-4167-8ED3-7A3A9705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5F6C-CCC5-49C8-A7A5-7AB823AA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75B4AD-0B27-43C3-ACF4-4F86C23D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F2761D-1C02-420F-B24F-FF6985F7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B9A02D-D55B-49FE-9703-378F7159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8A23CE-1D3D-4039-A98B-3CE61D03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29BAD8-22CE-449B-9C78-EEB39AF0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CB4D29-57E8-4097-B968-9A465ABF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47D75B-B2CE-4F84-89BC-775C5F5F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FE9E1D-754B-48B6-8D0E-1ACFA0DA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565425-B65D-4FC5-8858-39E81952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CF0C1F-08FF-452C-B95F-018B0410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EFA3-3747-4DD4-A6AD-9D266D6A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55B0F6-3B01-427D-93BB-41E990E6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4EBD85-671C-4B6E-AC30-A841549D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D953E6-71DE-4653-8D2F-800BCFAE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7815BD-74D3-43D4-93E4-6CEA03D8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4450B6-EFC1-45FA-B749-65F26AE9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6C71D3-38A0-40F1-B65E-FA22BA17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97ACBF-5EFC-41A5-8CCB-C0CD80E4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B4C294-6FA2-46A9-BF84-30B68677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D67E73-20E5-4DF7-B190-B461C4FD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DDD60A-6629-45EE-A676-F388BAE3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68A03-4046-44CB-840A-1CFCEC61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944567-FC00-4E44-92F7-1C268B51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8B3738-B303-4C58-8542-52CCA63E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F5B9E4-A5FD-4505-B263-C515134B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ABB17-DE97-49FE-B210-07A29CF0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38BBE-44C1-4C9E-A846-9E4D7C1C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7D98D-DAC5-40AD-BA6D-1EB5F6F2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9F9B7-3564-4CEC-BB4F-440B7F56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B31-5463-48C2-A986-5E1B4315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FF83-79D9-494F-A792-CDF470D8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41060-4E66-44B2-B6CE-4D508742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E0180-0A80-4B6F-823F-FB93602E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F7568-1F3F-4472-8812-40038C11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A15A3-1F07-4627-80D3-ED0ACEBF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A9C86-2294-421D-AE4E-8A3E472B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2A0D5-8060-4A6F-BBA4-9D9CCC40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206B7-C035-454D-A465-85002449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2BC68-1D00-4A0D-B1EB-E34C4FB8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0C4B8-C327-45A1-9F17-D0A92091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A81-ADF0-4B0E-A92A-AA4853D8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A7B50-2E19-4884-A494-56A33289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B79B0-9CA1-40D0-9A76-0F8E90FD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65B40-3462-493E-8801-7357C770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84E88-09AB-434C-B852-96BDDFC5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E5531-065C-4E60-AA27-DFEF27CB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9081E-A3BC-4FA9-ADED-3E814F17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372F6-BEDF-4376-8692-1C161A36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F15A4-EA24-47DC-8A1B-5C232176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E9306-A1CC-4A15-9762-24272FED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7DCB8-74F3-4FEA-B13E-141855B5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34E-A48C-4A48-AA67-84C0B654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7BE3A-6C7D-48B4-84BE-6B1F159F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C0C12-86FD-47B5-B0FD-651B4CC4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796BA-E02F-456D-9773-143F9DA1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52D7F-7B4A-4CE7-924A-8D2E7272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614C3-275E-49A4-9017-C876EADA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08AE9-F94F-448E-A5C5-639260EE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462D6-7BF3-4263-84C7-72644816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AD6AC-BAA5-4027-9E61-97638E2B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A077F-A99A-4AA1-8B6C-6F363F39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CD918-7A03-4C08-B61D-499E09A9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B6B-5962-4AA9-A947-DABFB8B5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75796-5CDF-478F-89CB-FF3223E4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F39FC-7A64-429A-A57C-5755CD3A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38E5E-62B2-4B34-B28F-7C79D1EA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6B01E-1817-49DE-BF78-1C52C2C4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E13EB-C526-4872-A9E8-57DA05A4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1F9B1-328B-4A75-B607-63BC65EC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3905C-A9AB-4A36-9B9C-7A1045C1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9EE5A-12F8-4A8F-B199-67149889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A78EF-AB0F-4240-8E0E-A52B19E6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B3C62-40DB-41E2-A8F4-04475D17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389-A002-4DD0-AC48-5707A2A2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512C5-3E58-4248-BAEF-F2DEAC8F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C2780-683B-4147-8BFC-AD0BAD97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38C22-18AB-4631-9CF7-3BDD52ED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238D8-B3D6-4968-8DF1-0FE596B3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78200-72C2-4EFA-A160-CCD3F263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5FBE5-FEC3-4904-A7DF-749B4F3C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8830F-1EC5-4B00-B26C-B85B0F45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7B770-B55C-4334-954B-7DF2FA43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9A377-CC4C-4DB7-84E5-704C42C7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AAC02-B56A-4041-86A9-3A446BAA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853B-286B-47EB-9D30-988D0210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E54C4-C0A2-4622-A646-C8A22C42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D5E98-2A8E-43AC-8417-B283A16F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F7E50-CC54-4CB7-B74A-8D8A0241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F494E-6C6C-43FC-97E4-1FD3E806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5999E-5745-449E-BF1D-64B76EC2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FD583-E8CE-4DE9-889F-1D25716F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04D1E-624A-431B-8528-A71B23E8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C26EB-E6ED-4561-88C2-0A86DF05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41BF2-9FEF-4BA6-B607-8B843B73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53107-5F1A-465F-89DE-B39537A9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4189-37EB-4AEB-BCA2-1AD7E662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CC957-7606-4CB9-8A70-E9876FD7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0955B-4E0B-4F46-B132-D43DFBAE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18643-41A3-4F24-91AA-9484A09A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D0F25-BD8E-4748-9FD6-6D823E8B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FA478-396C-4734-8D7C-CA41BA25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9F181-02B0-4C9D-9DCB-42E65CAD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34A36-46BC-423D-A5A7-0781F893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A9A42-A5D0-4D78-BE99-6CB683DA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869F8-62AD-41F8-8E1F-1A4E8CA2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2DFAE-5EFE-42FD-B140-18E65F3B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DB13-F4DE-4FF6-8A90-536F375604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0C0A-179C-4161-91DE-DB9B1AD6C7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BFDE-7C94-4AA9-8CC3-6EB324E30B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FCF4-8818-4DF0-8FEA-E43E87014D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4C53-61A5-4A90-A872-4B1E39A7B3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19CE-49FD-4B71-9182-DA111A4213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1EED-BE88-4098-8F1C-D23CB883B4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863F-1449-474C-8DDC-2251631F22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6A4D-5509-4AC5-A885-1C5746B9E6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765E-D180-4B0E-B146-6EB7535B74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329F-F766-417A-B7FB-00FB380B59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62E2-397A-47B6-B241-BB60A9EAC2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E942-75B7-4DC2-8586-2C49E4458F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4975-00EB-4217-8E15-F989D2C92F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405F-490B-49BE-A830-1841776D34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4630-0FE6-4A66-9E98-1D8221387E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4EAA-6274-4BF8-8650-32AC8AD6D1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7971-C3CD-4B14-89E9-58E2992D1B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E69A-4383-4D17-A117-1A1F88873E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EA1A-C009-431D-9B21-11F013B0F8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9558-8A76-45F0-8AB6-DC8A8BB0BB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FE04-FC50-4942-897C-30C873DE02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CA5E-B2BC-48A5-968E-3CFC78A961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441B-3788-4B53-9ADF-8982CCF4B5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A49C-1C8E-4373-A9E6-808DF2FC0E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FDB2-C0E5-4613-A0CF-5257801E5D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6A6D-79AC-4C82-9836-D7F22B00AF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E327-BF4C-4478-B792-2777D3726C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B26C-9BDE-4056-911D-994D34A8FD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660C-EBCB-472A-8D5C-7CE935508A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0D0A-7334-4366-A962-A01379AA9B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66ED-AD06-4086-B2B5-22D68CAA70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C7E4-2845-4CD5-97FF-322879C656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8C42-FC00-42AD-AF41-3077F87A6C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0697-A7EA-4A84-AF53-4AB73E183B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EB92-442C-4E91-8E00-2463164AF1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2929-09A3-4B9E-B909-8964DA6D9B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BBDF-7E3E-4876-9112-D030FD55F8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0975-EBA0-4563-9026-5A7163B951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DF86-9EFB-4550-8B1A-216337ACBE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766880" y="3200400"/>
            <a:ext cx="5610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37960" y="806400"/>
            <a:ext cx="8668080" cy="57913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727440" y="1989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237360" y="1989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781360" y="23493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572000" y="2349360"/>
            <a:ext cx="57636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556000" y="2708280"/>
            <a:ext cx="57600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219640" y="2717640"/>
            <a:ext cx="576360" cy="257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3267000" y="342900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022720" y="342900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2771640" y="378936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4427640" y="3789360"/>
            <a:ext cx="57600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5724360" y="378000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2719440" y="414972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4005360" y="4149720"/>
            <a:ext cx="57600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5689440" y="414972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3635280" y="5041800"/>
            <a:ext cx="576360" cy="257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2916360" y="5492880"/>
            <a:ext cx="57600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2916360" y="5940360"/>
            <a:ext cx="57600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6640560" y="6353280"/>
            <a:ext cx="576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9410" descr=""/>
          <p:cNvPicPr/>
          <p:nvPr/>
        </p:nvPicPr>
        <p:blipFill>
          <a:blip r:embed="rId1"/>
          <a:stretch/>
        </p:blipFill>
        <p:spPr>
          <a:xfrm>
            <a:off x="438120" y="1824120"/>
            <a:ext cx="8267760" cy="3209760"/>
          </a:xfrm>
          <a:prstGeom prst="rect">
            <a:avLst/>
          </a:prstGeom>
          <a:ln w="0">
            <a:noFill/>
          </a:ln>
        </p:spPr>
      </p:pic>
      <p:pic>
        <p:nvPicPr>
          <p:cNvPr id="942" name="图片 59411" descr=""/>
          <p:cNvPicPr/>
          <p:nvPr/>
        </p:nvPicPr>
        <p:blipFill>
          <a:blip r:embed="rId2"/>
          <a:stretch/>
        </p:blipFill>
        <p:spPr>
          <a:xfrm>
            <a:off x="876240" y="2928960"/>
            <a:ext cx="77533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组合 58376"/>
          <p:cNvGrpSpPr/>
          <p:nvPr/>
        </p:nvGrpSpPr>
        <p:grpSpPr>
          <a:xfrm>
            <a:off x="290520" y="1857240"/>
            <a:ext cx="8562960" cy="3143520"/>
            <a:chOff x="290520" y="1857240"/>
            <a:chExt cx="8562960" cy="3143520"/>
          </a:xfrm>
        </p:grpSpPr>
        <p:pic>
          <p:nvPicPr>
            <p:cNvPr id="944" name="图片 58373" descr=""/>
            <p:cNvPicPr/>
            <p:nvPr/>
          </p:nvPicPr>
          <p:blipFill>
            <a:blip r:embed="rId1"/>
            <a:stretch/>
          </p:blipFill>
          <p:spPr>
            <a:xfrm>
              <a:off x="290520" y="1857240"/>
              <a:ext cx="8562960" cy="314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图片 58375" descr=""/>
            <p:cNvPicPr/>
            <p:nvPr/>
          </p:nvPicPr>
          <p:blipFill>
            <a:blip r:embed="rId2"/>
            <a:stretch/>
          </p:blipFill>
          <p:spPr>
            <a:xfrm>
              <a:off x="1185840" y="2300400"/>
              <a:ext cx="7172280" cy="227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7236000" y="4629240"/>
            <a:ext cx="1439640" cy="257040"/>
          </a:xfrm>
          <a:prstGeom prst="rect">
            <a:avLst/>
          </a:prstGeom>
          <a:ln w="0">
            <a:noFill/>
          </a:ln>
        </p:spPr>
      </p:pic>
      <p:sp>
        <p:nvSpPr>
          <p:cNvPr id="947" name="直接连接符 58377"/>
          <p:cNvSpPr/>
          <p:nvPr/>
        </p:nvSpPr>
        <p:spPr>
          <a:xfrm>
            <a:off x="1835280" y="3429000"/>
            <a:ext cx="5400720" cy="863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4356000" y="4610160"/>
            <a:ext cx="1440000" cy="257040"/>
          </a:xfrm>
          <a:prstGeom prst="rect">
            <a:avLst/>
          </a:prstGeom>
          <a:ln w="0">
            <a:noFill/>
          </a:ln>
        </p:spPr>
      </p:pic>
      <p:sp>
        <p:nvSpPr>
          <p:cNvPr id="949" name="直接连接符 58379"/>
          <p:cNvSpPr/>
          <p:nvPr/>
        </p:nvSpPr>
        <p:spPr>
          <a:xfrm flipH="1">
            <a:off x="3851280" y="3429000"/>
            <a:ext cx="504720" cy="1224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直接连接符 58380"/>
          <p:cNvSpPr/>
          <p:nvPr/>
        </p:nvSpPr>
        <p:spPr>
          <a:xfrm flipH="1">
            <a:off x="1907640" y="3500280"/>
            <a:ext cx="5256360" cy="8654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1557360" y="4629240"/>
            <a:ext cx="14400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04:24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